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gif" ContentType="image/gif"/>
  <Override PartName="/ppt/media/image3.jpeg" ContentType="image/jpeg"/>
  <Override PartName="/ppt/media/image4.gif" ContentType="image/gif"/>
  <Override PartName="/ppt/media/image6.jpeg" ContentType="image/jpeg"/>
  <Override PartName="/ppt/media/image8.png" ContentType="image/png"/>
  <Override PartName="/ppt/media/image5.png" ContentType="image/png"/>
  <Override PartName="/ppt/media/image7.gif" ContentType="image/gif"/>
  <Override PartName="/ppt/media/APPLAUS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04920" y="235080"/>
            <a:ext cx="8458200" cy="6330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6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cc"/>
                </a:solidFill>
                <a:latin typeface="AbcBulletin"/>
              </a:rPr>
              <a:t>Guess the Covered Word</a:t>
            </a:r>
            <a:endParaRPr b="0" lang="en-US" sz="72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447920" y="33526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Bulletin"/>
              </a:rPr>
              <a:t>Spelling Words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Bulletin"/>
              </a:rPr>
              <a:t>Week 12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447920" y="4724280"/>
            <a:ext cx="6476760" cy="143460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bcPrint"/>
              </a:rPr>
              <a:t>She </a:t>
            </a:r>
            <a:r>
              <a:rPr b="1" lang="en-US" sz="4400" spc="-1" strike="noStrike">
                <a:solidFill>
                  <a:srgbClr val="3333cc"/>
                </a:solidFill>
                <a:latin typeface="AbcPrint"/>
              </a:rPr>
              <a:t>will take the dog ou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95680" y="744228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133720" y="1219320"/>
            <a:ext cx="4647960" cy="304776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5758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38080" y="4495680"/>
            <a:ext cx="74678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AbcPrint"/>
              </a:rPr>
              <a:t>There are too </a:t>
            </a:r>
            <a:r>
              <a:rPr b="0" lang="en-US" sz="5000" spc="-1" strike="noStrike">
                <a:solidFill>
                  <a:srgbClr val="3333cc"/>
                </a:solidFill>
                <a:latin typeface="AbcPrint"/>
              </a:rPr>
              <a:t>many </a:t>
            </a:r>
            <a:r>
              <a:rPr b="0" lang="en-US" sz="5000" spc="-1" strike="noStrike">
                <a:solidFill>
                  <a:srgbClr val="ff0000"/>
                </a:solidFill>
                <a:latin typeface="AbcPrint"/>
              </a:rPr>
              <a:t>frogs in the pond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4572000"/>
            <a:ext cx="152424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438280" y="1523880"/>
            <a:ext cx="419112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38080" y="4495680"/>
            <a:ext cx="74678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AbcPrint"/>
              </a:rPr>
              <a:t>There are too </a:t>
            </a:r>
            <a:r>
              <a:rPr b="0" lang="en-US" sz="5000" spc="-1" strike="noStrike">
                <a:solidFill>
                  <a:srgbClr val="3333cc"/>
                </a:solidFill>
                <a:latin typeface="AbcPrint"/>
              </a:rPr>
              <a:t>many </a:t>
            </a:r>
            <a:r>
              <a:rPr b="0" lang="en-US" sz="5000" spc="-1" strike="noStrike">
                <a:solidFill>
                  <a:srgbClr val="ff0000"/>
                </a:solidFill>
                <a:latin typeface="AbcPrint"/>
              </a:rPr>
              <a:t>frogs in the pond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438280" y="1523880"/>
            <a:ext cx="419112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838080" y="762120"/>
            <a:ext cx="68580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Look at th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words quickly.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hen we will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spell them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ogether b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hanting.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09680" y="2133720"/>
            <a:ext cx="44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cc"/>
                </a:solidFill>
                <a:latin typeface="AbcPrint"/>
              </a:rPr>
              <a:t>ou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133720" y="22096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cc"/>
                </a:solidFill>
                <a:latin typeface="AbcPrint"/>
              </a:rPr>
              <a:t>them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133720" y="22096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cc"/>
                </a:solidFill>
                <a:latin typeface="AbcPrint"/>
              </a:rPr>
              <a:t>the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133720" y="22096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cc"/>
                </a:solidFill>
                <a:latin typeface="AbcPrint"/>
              </a:rPr>
              <a:t>sh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133720" y="22096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cc"/>
                </a:solidFill>
                <a:latin typeface="AbcPrint"/>
              </a:rPr>
              <a:t>man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895480" y="762120"/>
            <a:ext cx="3427560" cy="3871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838080" y="487692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cPrint"/>
              </a:rPr>
              <a:t>Mickey says, “You did A-OK!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609480"/>
            <a:ext cx="6934320" cy="56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alkboard Bold"/>
              </a:rPr>
              <a:t>Say the word as the arrow points to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bcPrint"/>
              </a:rPr>
              <a:t>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AbcPrint"/>
              </a:rPr>
              <a:t>th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9933"/>
                </a:solidFill>
                <a:latin typeface="AbcPrint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9900cc"/>
                </a:solidFill>
                <a:latin typeface="AbcPrint"/>
              </a:rPr>
              <a:t>s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cc33"/>
                </a:solidFill>
                <a:latin typeface="AbcPrint"/>
              </a:rPr>
              <a:t>ma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2362320"/>
            <a:ext cx="1904760" cy="30456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3200400"/>
            <a:ext cx="1904760" cy="30492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4038480"/>
            <a:ext cx="1904760" cy="30492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4876920"/>
            <a:ext cx="1904760" cy="30456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5638680"/>
            <a:ext cx="1904760" cy="30492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4343400"/>
            <a:ext cx="7391520" cy="15562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The ball flew out of the par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91120" y="4419720"/>
            <a:ext cx="10666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666880" y="990720"/>
            <a:ext cx="3886200" cy="2590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38080" y="4343400"/>
            <a:ext cx="7391520" cy="15562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The ball flew </a:t>
            </a: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out</a:t>
            </a: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 of the par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666880" y="990720"/>
            <a:ext cx="3886200" cy="2590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38080" y="4343400"/>
            <a:ext cx="7086600" cy="15562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cc"/>
                </a:solidFill>
                <a:latin typeface="AbcPrint"/>
              </a:rPr>
              <a:t> </a:t>
            </a: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We will go with </a:t>
            </a: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them</a:t>
            </a: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 to schoo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4343400"/>
            <a:ext cx="121896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57400" y="914400"/>
            <a:ext cx="4800600" cy="2989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38080" y="4343400"/>
            <a:ext cx="7086600" cy="15562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cc"/>
                </a:solidFill>
                <a:latin typeface="AbcPrint"/>
              </a:rPr>
              <a:t> </a:t>
            </a: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We will go with </a:t>
            </a: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them</a:t>
            </a: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 to schoo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057400" y="914400"/>
            <a:ext cx="4800600" cy="2989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2120" y="4648320"/>
            <a:ext cx="7543800" cy="143460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bcPrint"/>
              </a:rPr>
              <a:t>Then </a:t>
            </a:r>
            <a:r>
              <a:rPr b="1" lang="en-US" sz="4400" spc="-1" strike="noStrike">
                <a:solidFill>
                  <a:srgbClr val="3333cc"/>
                </a:solidFill>
                <a:latin typeface="AbcPrint"/>
              </a:rPr>
              <a:t>the dog ran down the hall.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4648320"/>
            <a:ext cx="12193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11530080" cy="2152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62120" y="4648320"/>
            <a:ext cx="7543800" cy="143460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bcPrint"/>
              </a:rPr>
              <a:t>Then </a:t>
            </a:r>
            <a:r>
              <a:rPr b="1" lang="en-US" sz="4400" spc="-1" strike="noStrike">
                <a:solidFill>
                  <a:srgbClr val="3333cc"/>
                </a:solidFill>
                <a:latin typeface="AbcPrint"/>
              </a:rPr>
              <a:t>the dog ran down the hall.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11530080" cy="2152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447920" y="4724280"/>
            <a:ext cx="6476760" cy="143460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bcPrint"/>
              </a:rPr>
              <a:t>She </a:t>
            </a:r>
            <a:r>
              <a:rPr b="1" lang="en-US" sz="4400" spc="-1" strike="noStrike">
                <a:solidFill>
                  <a:srgbClr val="3333cc"/>
                </a:solidFill>
                <a:latin typeface="AbcPrint"/>
              </a:rPr>
              <a:t>will take the dog ou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495680" y="744228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371600" y="4724280"/>
            <a:ext cx="106668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133720" y="1219320"/>
            <a:ext cx="4647960" cy="304776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5758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gewood User</cp:lastModifiedBy>
  <dcterms:modified xsi:type="dcterms:W3CDTF">2009-01-09T19:30:45Z</dcterms:modified>
  <cp:revision>10</cp:revision>
  <dc:subject/>
  <dc:title>Guess the Covered Word</dc:title>
</cp:coreProperties>
</file>